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0F8-04C4-4D4C-9BF5-677B038C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F79A-4D9B-44D5-8486-151BA9A3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41C-CEDA-481F-BDC5-91380B673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9FC-559F-4C49-9851-F8FF3D3E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31CA-A84D-4E96-B1B5-927F9DC2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112F-2D61-442B-ACFA-A114E1D2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7AE-B99E-45F1-ADC2-1FBF5B71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95D2-8443-40D6-8A4B-E957DF4E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0E83-7228-4236-A01B-03CF28AC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0A0-0108-4DF0-A93A-68D7756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3088-76D7-4D92-9B7E-7CAE27A7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762-1141-44CD-B964-BC40D57D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B0AD-2B63-4F4F-BE5C-DDF042478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492280"/>
            <a:ext cx="70102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Arial"/>
              </a:rPr>
              <a:t>KRITERIJUMI U 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4797360"/>
            <a:ext cx="7056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teratura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/Izvor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Roditelji i škola:kako do uspešne saradnj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Verdana"/>
              </a:rPr>
              <a:t>Jelena Vranješević, Učiteljski fakultet, Beogr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48000" y="335772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Obuk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T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eograd, Smeder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9.06.-01.07.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Dobra prak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) Uvodi nešto no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klanja postojeće barij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dstiče dalje promene u toj obla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2) Služi da osvetli postojeće probleme, podstiče pitanja u određenoj oblasti i proces kritičkog preispitiv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3) Nosi sa sobom određeni stepen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4) Prethodi proveri svoje 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5) Multikontekstualna - može da se primeni i u drugim konteks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imer dobre prakse u P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Š “Đura Jakšić” Kikin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ilj: Uključivanje roditelja u cilju unapređivanja kvaliteta Programa 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Zadat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znalaženje mehanizama  za  aktivno uključivanje roditelja škole u program “ PO na prelasku u srednju školu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daju doprinos u svakoj fazi PO procesa: zajedno sa učenicima prolaze radionice; zajedno sa učenicima u  kreativnim  akcijama- Po kvizovi, PO izleti; Po kokteli; roditelji kao edukatori o svom zanimanju;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ditelji kao PR Programa PO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Osnovni princip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radnja roditelja i nastavnika tokom celog procesa implementacije progra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spitivanje potreba roditelja i učeni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reiranje akcija u odnosu na identifikovane potre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Rezultat – mini projeka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Plan specijalizacije u oblasti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ključivanje roditelja u svaki segment- fazu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 i realizatori  aktivnosti PO, zajedno sa svojom deco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motivatori  drugih rodite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u ulozi edukatora  u škol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907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3300"/>
                </a:solidFill>
                <a:latin typeface="Arial"/>
              </a:rPr>
              <a:t>Provera –zašto smo rekli “DA,ovo je dobra praksa! 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Uvodi nešto novo</a:t>
            </a:r>
            <a:r>
              <a:rPr b="0" lang="sr-Latn-CS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roditelji kao res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aradnja tokom celog procesa 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roditelji kao inicij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Multikontekstua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drživost: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aktivnosti u projektu su postale deo godišnjeg plana šk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3300"/>
                </a:solidFill>
                <a:latin typeface="Arial"/>
              </a:rPr>
              <a:t>Obuhvatnost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– uključeni roditelji učenika od 1-8 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28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539640" y="76500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3300"/>
                </a:solidFill>
                <a:latin typeface="Arial"/>
              </a:rPr>
              <a:t>Provera svakog DA kroz “obruč” kriterijum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79640" y="2276640"/>
            <a:ext cx="3816360" cy="345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56000" y="2781360"/>
            <a:ext cx="2736720" cy="23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51280" y="3789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2987280" y="3212640"/>
            <a:ext cx="792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1079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00720" y="2421000"/>
            <a:ext cx="1942920" cy="2016000"/>
          </a:xfrm>
          <a:custGeom>
            <a:avLst/>
            <a:gdLst>
              <a:gd name="textAreaLeft" fmla="*/ 0 w 1942920"/>
              <a:gd name="textAreaRight" fmla="*/ 1943280 w 19429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21600" h="21600">
                <a:moveTo>
                  <a:pt x="1513" y="16313"/>
                </a:moveTo>
                <a:arcTo wR="-10800" hR="-10800" stAng="8958158" swAng="-9238260"/>
                <a:lnTo>
                  <a:pt x="36" y="11679"/>
                </a:lnTo>
                <a:arcTo wR="10800" hR="10800" stAng="10519897" swAng="9238260"/>
                <a:lnTo>
                  <a:pt x="22408" y="3908"/>
                </a:lnTo>
                <a:lnTo>
                  <a:pt x="21465" y="7608"/>
                </a:lnTo>
                <a:lnTo>
                  <a:pt x="17765" y="6665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1141000">
            <a:off x="5219280" y="3357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3399"/>
                </a:solidFill>
                <a:latin typeface="Verdana"/>
              </a:rPr>
              <a:t>RODITELJI ZAJEDNO SA UČENICIMA NA SVIM RADIONIC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10:09:56Z</dcterms:created>
  <dc:creator>Valerija Živković</dc:creator>
  <dc:description/>
  <dc:language>en-US</dc:language>
  <cp:lastModifiedBy>Valerija Živković</cp:lastModifiedBy>
  <dcterms:modified xsi:type="dcterms:W3CDTF">2012-06-26T10:33:16Z</dcterms:modified>
  <cp:revision>6</cp:revision>
  <dc:subject/>
  <dc:title>Slide 1</dc:title>
</cp:coreProperties>
</file>